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353-F106-492C-B240-771F7762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761-4A38-481E-A33C-5259680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EAB-3BBA-479C-A5CB-AD112ABC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DF5-0A20-4B8E-83E5-533914B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AEC-05E4-4BDF-B8E6-9D09C23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4B0-277B-49C9-9658-8D043CA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D8F-DBAD-4D60-9F33-E33DC82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EB3-D9FA-46C3-AA6F-ADE07CBD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58E-F41F-4994-A264-BD622C5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F44-0DC3-45D0-A4BA-A1C3C95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CD9-E071-4200-A995-0472803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8C4-28B9-4375-BF31-69B40A5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5B1A-C16A-4F86-A02D-6D6DBBB38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23623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自我介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姓名：靓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学校：第一实验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血型：</a:t>
            </a: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星座：双鱼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属相：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905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我的爱好：滑冰、画画、制作电脑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96880" y="1447920"/>
            <a:ext cx="293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很高兴认识大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愿我们成为好朋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3809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5:42:19Z</dcterms:created>
  <dc:creator>zsz</dc:creator>
  <dc:description/>
  <dc:language>en-US</dc:language>
  <cp:lastModifiedBy>haicy</cp:lastModifiedBy>
  <dcterms:modified xsi:type="dcterms:W3CDTF">2006-06-29T01:20:22Z</dcterms:modified>
  <cp:revision>23</cp:revision>
  <dc:subject/>
  <dc:title>自我介绍</dc:title>
</cp:coreProperties>
</file>