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F811-0303-4F3F-8757-8AD53EDE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B434-BD8D-4277-9952-6B4A0081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0812-594F-4437-91FC-7C6BC2A9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179C-47DC-48F4-98F6-6C764447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0DEC-37DD-4E11-895D-C6A44DC5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6C16-BC37-40E8-AB85-3DD1957C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4645-5884-4B1C-BFC2-C0D01391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A81-A762-4383-A12C-3F6EC707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DC5-602D-41C1-B0D3-495CF1BB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D65C-CD0D-41C8-B165-8ADA3667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069A-4F36-4AC8-AD9D-45F5BA22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80D6-0112-403A-9472-F22612E3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6129-B26C-40C5-A645-9A557CF3E3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0033"/>
                </a:solidFill>
                <a:latin typeface="Times New Roman"/>
                <a:ea typeface="方正超粗黑简体"/>
              </a:rPr>
              <a:t>古诗赏析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19160" y="152388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ff00"/>
                </a:solidFill>
                <a:latin typeface="Times New Roman"/>
                <a:ea typeface="方正大黑简体"/>
              </a:rPr>
              <a:t>春日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43200" y="3580920"/>
            <a:ext cx="373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Times New Roman"/>
                <a:ea typeface="方正细圆简体"/>
              </a:rPr>
              <a:t>（宋）　朱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0" y="2286000"/>
            <a:ext cx="5105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胜日寻芳泗水滨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无边光景一时新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等闲识得东风面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万紫千红总是春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2437920" y="9140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ff00"/>
                </a:solidFill>
                <a:latin typeface="Times New Roman"/>
                <a:ea typeface="方正康体简体"/>
              </a:rPr>
              <a:t>春日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3430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这是宋代朱熹的一首春游诗，赞美了万紫千红的春天景色，同时也点出了“东风”是万紫千红春天的源头这个道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诗中把春天描写得姹紫嫣红，多姿多彩，而又充满了勃勃生机，表达了作者对万物复苏的春天的渴望，以及春天到来的喜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诵读中可以体会大自然春天的美丽和生气勃勃，感悟春天生命力的美好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251460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00ff"/>
                </a:solidFill>
                <a:latin typeface="Times New Roman"/>
                <a:ea typeface="方正黄草简体"/>
              </a:rPr>
              <a:t>赏析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方正黄草简体"/>
                <a:ea typeface="方正黄草简体"/>
              </a:rPr>
              <a:t>朱熹</a:t>
            </a:r>
            <a:r>
              <a:rPr b="0" lang="zh-CN" sz="4400" spc="-1" strike="noStrike">
                <a:solidFill>
                  <a:srgbClr val="6600ff"/>
                </a:solidFill>
                <a:latin typeface="方正黄草简体"/>
                <a:ea typeface="方正黄草简体"/>
              </a:rPr>
              <a:t>（</a:t>
            </a:r>
            <a:r>
              <a:rPr b="0" lang="zh-CN" sz="4400" spc="-1" strike="noStrike">
                <a:solidFill>
                  <a:srgbClr val="6600ff"/>
                </a:solidFill>
                <a:latin typeface="方正黄草简体"/>
                <a:ea typeface="方正黄草简体"/>
              </a:rPr>
              <a:t>1130—1200</a:t>
            </a:r>
            <a:r>
              <a:rPr b="0" lang="zh-CN" sz="4400" spc="-1" strike="noStrike">
                <a:solidFill>
                  <a:srgbClr val="6600ff"/>
                </a:solidFill>
                <a:latin typeface="方正黄草简体"/>
                <a:ea typeface="方正黄草简体"/>
              </a:rPr>
              <a:t>）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南宋思想家、教育家、文学家。字元晦，号晦庵、晦翁，别称紫阳、考亭 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他博览群书，广注典籍，对经学、史学、文学、乐律以至自然科学有不同程度的贡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他从事教育时强调启发式，治学态度严谨，分析问题精密，对后代的学者影响很大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他的著作很多，有《四书章句集注》《周易本义》《诗集传》《楚辞集注》，后人编纂的《晦庵先生朱文公文集》和《朱子语类》等多种书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71600" y="2286000"/>
            <a:ext cx="6781680" cy="605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lin ang="5400000"/>
          </a:gradFill>
          <a:ln w="572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501"/>
              </a:spcBef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在风和日丽的一天，诗人到孔子曾经呆过的地方泗水流域去观赏风景。那里风光无限，一时之间许多新鲜奇丽的景色映入眼帘。人们寻常中都知道有春风，但要是真正认识它，只有在见到万紫千红的景象以后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38280" y="457200"/>
            <a:ext cx="3886200" cy="16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1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99ccff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华文行楷"/>
              </a:rPr>
              <a:t>我对诗句的理解</a:t>
            </a:r>
            <a:endParaRPr b="0" lang="en-US" sz="2400" spc="1" strike="noStrike">
              <a:ln w="12600">
                <a:solidFill>
                  <a:srgbClr val="99ccff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4" name="j0395442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j0228412" descr=""/>
          <p:cNvPicPr/>
          <p:nvPr/>
        </p:nvPicPr>
        <p:blipFill>
          <a:blip r:embed="rId2"/>
          <a:stretch/>
        </p:blipFill>
        <p:spPr>
          <a:xfrm>
            <a:off x="0" y="4572000"/>
            <a:ext cx="2057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02:32:51Z</dcterms:created>
  <dc:creator>haicy</dc:creator>
  <dc:description/>
  <dc:language>en-US</dc:language>
  <cp:lastModifiedBy>haicy</cp:lastModifiedBy>
  <dcterms:modified xsi:type="dcterms:W3CDTF">2006-07-07T07:34:42Z</dcterms:modified>
  <cp:revision>20</cp:revision>
  <dc:subject/>
  <dc:title>古诗赏析——春日</dc:title>
</cp:coreProperties>
</file>