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CB4-F626-4992-8E5D-E868480E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05E-3D91-4DB2-BB33-F7DFBBA4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21A-416C-4C71-9F5C-1C494C19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7E79-FE0D-41FE-AFB9-1D991950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A71-8073-4624-BAA4-5F254C5F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563-6203-4A13-9CBC-D7D34B4F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89F-1CE3-4D76-9896-4C300531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054-4BFF-4F3D-B23B-586B98DB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315-DC8A-4D6D-A663-0DB37660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DCA-DB75-40B3-A7E9-F5C33A3E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15E-D14D-43A8-BD31-D93745CF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B15-F156-45C6-A993-4658D299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9210-14E6-48E8-A1E8-DC987EA343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0215694" descr=""/>
          <p:cNvPicPr/>
          <p:nvPr/>
        </p:nvPicPr>
        <p:blipFill>
          <a:blip r:embed="rId1"/>
          <a:stretch/>
        </p:blipFill>
        <p:spPr>
          <a:xfrm>
            <a:off x="6019920" y="2666880"/>
            <a:ext cx="2614320" cy="363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1600200"/>
            <a:ext cx="51055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隶书简体"/>
              </a:rPr>
              <a:t>我爱我班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隶书简体"/>
              <a:ea typeface="方正隶书简体"/>
            </a:endParaRPr>
          </a:p>
        </p:txBody>
      </p:sp>
      <p:pic>
        <p:nvPicPr>
          <p:cNvPr id="43" name="j0193312" descr=""/>
          <p:cNvPicPr/>
          <p:nvPr/>
        </p:nvPicPr>
        <p:blipFill>
          <a:blip r:embed="rId2"/>
          <a:stretch/>
        </p:blipFill>
        <p:spPr>
          <a:xfrm>
            <a:off x="685800" y="5105520"/>
            <a:ext cx="1371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99"/>
                </a:solidFill>
                <a:latin typeface="Times New Roman"/>
                <a:ea typeface="方正水柱简体"/>
              </a:rPr>
              <a:t>我们班的班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994040" y="1981080"/>
          <a:ext cx="500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1981080"/>
                    <a:ext cx="500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方正水柱简体"/>
              </a:rPr>
              <a:t>常用搜索网站调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828800"/>
                <a:gridCol w="1523880"/>
                <a:gridCol w="1524240"/>
                <a:gridCol w="1523880"/>
                <a:gridCol w="13716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班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Goog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Sog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Bai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天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1981080"/>
          <a:ext cx="784872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487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ff"/>
                </a:solidFill>
                <a:latin typeface="Times New Roman"/>
                <a:ea typeface="方正水柱简体"/>
              </a:rPr>
              <a:t>常用搜索网站对比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Times New Roman"/>
                <a:ea typeface="方正水柱简体"/>
              </a:rPr>
              <a:t>我们班的课程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90720" y="2209680"/>
          <a:ext cx="7315200" cy="3810240"/>
        </p:xfrm>
        <a:graphic>
          <a:graphicData uri="http://schemas.openxmlformats.org/drawingml/2006/table">
            <a:tbl>
              <a:tblPr/>
              <a:tblGrid>
                <a:gridCol w="520560"/>
                <a:gridCol w="563760"/>
                <a:gridCol w="1266480"/>
                <a:gridCol w="1230480"/>
                <a:gridCol w="1295280"/>
                <a:gridCol w="1219320"/>
                <a:gridCol w="1219320"/>
              </a:tblGrid>
              <a:tr h="685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节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57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科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美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音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科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社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社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信息技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体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体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72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     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信息技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音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体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班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方正水柱简体"/>
                <a:ea typeface="方正水柱简体"/>
              </a:rPr>
              <a:t>四</a:t>
            </a:r>
            <a:r>
              <a:rPr b="0" lang="zh-CN" sz="4400" spc="-1" strike="noStrike">
                <a:solidFill>
                  <a:srgbClr val="0066ff"/>
                </a:solidFill>
                <a:latin typeface="方正水柱简体"/>
                <a:ea typeface="方正水柱简体"/>
              </a:rPr>
              <a:t>(1)</a:t>
            </a:r>
            <a:r>
              <a:rPr b="0" lang="zh-CN" sz="4400" spc="-1" strike="noStrike">
                <a:solidFill>
                  <a:srgbClr val="0066ff"/>
                </a:solidFill>
                <a:latin typeface="方正水柱简体"/>
                <a:ea typeface="方正水柱简体"/>
              </a:rPr>
              <a:t>班常用搜索网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4:41:21Z</dcterms:created>
  <dc:creator>haicy</dc:creator>
  <dc:description/>
  <dc:language>en-US</dc:language>
  <cp:lastModifiedBy>haicy</cp:lastModifiedBy>
  <dcterms:modified xsi:type="dcterms:W3CDTF">2006-06-29T04:53:24Z</dcterms:modified>
  <cp:revision>9</cp:revision>
  <dc:subject/>
  <dc:title>我们班的班委</dc:title>
</cp:coreProperties>
</file>