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D16-A322-4763-B8FB-3BA65312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C56-9A49-49F8-862C-40911596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423-049D-43C2-B9D5-74E45EC4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974-A737-4A9D-B33B-18C32F55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282-B4B8-4C88-84F7-AA989D3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F83-5176-4A78-A642-878AD82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09C-8A35-4847-BA06-58D09BC6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B28-C17D-4D0B-A7D2-7E937F55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9C0-2BAD-45E0-86E0-BFE9A5B0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8C4-A9D0-4392-80F2-4AB3014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A12-0BD2-4F2D-AF04-B2EB659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0AB-EDF5-4811-AF85-6C51578F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43A-F20F-4356-BE40-7E1479748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23623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自我介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超粗黑简体"/>
              </a:rPr>
              <a:t>自我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姓名：靓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学校：第一实验小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血型：</a:t>
            </a: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星座：双鱼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华文行楷"/>
                <a:ea typeface="华文行楷"/>
              </a:rPr>
              <a:t>属相：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905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我的爱好：滑冰、画画、制作电脑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超粗黑简体"/>
              </a:rPr>
              <a:t>自我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96880" y="1447920"/>
            <a:ext cx="2935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很高兴认识大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愿我们成为好朋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3809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超粗黑简体"/>
              </a:rPr>
              <a:t>自我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5:42:19Z</dcterms:created>
  <dc:creator>zsz</dc:creator>
  <dc:description/>
  <dc:language>en-US</dc:language>
  <cp:lastModifiedBy>haicy</cp:lastModifiedBy>
  <dcterms:modified xsi:type="dcterms:W3CDTF">2006-06-29T01:20:22Z</dcterms:modified>
  <cp:revision>23</cp:revision>
  <dc:subject/>
  <dc:title>自我介绍</dc:title>
</cp:coreProperties>
</file>