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C71-8EAF-46F4-A541-118C13B7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215-214A-4B00-B029-93070F1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78B-94D7-4E7D-9BBC-89593CE7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EA0-624F-4558-BB4E-5099F433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404-BF3C-446D-AC37-20B881A2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19D-23C7-49A0-B975-FE070CB6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323-C7C0-4A5A-9A3F-99BEA179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030-6DEC-487B-86F1-E70614A6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A27-B227-443F-B19D-C47D414E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73E-B9A1-42CF-9E5B-6977CAE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6C1-20F0-4360-8C6F-81E74031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675-834C-4D4F-AD4F-BE59974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E9D-62EE-4E6D-8B37-8C8394DBE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215694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614320" cy="3633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600200"/>
            <a:ext cx="5105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隶书简体"/>
              </a:rPr>
              <a:t>我爱我班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隶书简体"/>
              <a:ea typeface="方正隶书简体"/>
            </a:endParaRPr>
          </a:p>
        </p:txBody>
      </p:sp>
      <p:pic>
        <p:nvPicPr>
          <p:cNvPr id="43" name="j0193312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1371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99"/>
                </a:solidFill>
                <a:latin typeface="Times New Roman"/>
                <a:ea typeface="方正水柱简体"/>
              </a:rPr>
              <a:t>我们班的班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994040" y="1981080"/>
          <a:ext cx="500220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1981080"/>
                    <a:ext cx="500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方正水柱简体"/>
              </a:rPr>
              <a:t>常用搜索网站调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828800"/>
                <a:gridCol w="1523880"/>
                <a:gridCol w="1524240"/>
                <a:gridCol w="1523880"/>
                <a:gridCol w="13716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班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Goo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og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Bai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天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981080"/>
          <a:ext cx="784872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Times New Roman"/>
                <a:ea typeface="方正水柱简体"/>
              </a:rPr>
              <a:t>常用搜索网站对比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方正水柱简体"/>
              </a:rPr>
              <a:t>我们班的课程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2209680"/>
          <a:ext cx="7315200" cy="3810240"/>
        </p:xfrm>
        <a:graphic>
          <a:graphicData uri="http://schemas.openxmlformats.org/drawingml/2006/table">
            <a:tbl>
              <a:tblPr/>
              <a:tblGrid>
                <a:gridCol w="520560"/>
                <a:gridCol w="563760"/>
                <a:gridCol w="1266480"/>
                <a:gridCol w="1230480"/>
                <a:gridCol w="1295280"/>
                <a:gridCol w="1219320"/>
                <a:gridCol w="1219320"/>
              </a:tblGrid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节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7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美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音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科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社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技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     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息技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音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英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体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班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四</a:t>
            </a: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(1)</a:t>
            </a:r>
            <a:r>
              <a:rPr b="0" lang="zh-CN" sz="4400" spc="-1" strike="noStrike">
                <a:solidFill>
                  <a:srgbClr val="0066ff"/>
                </a:solidFill>
                <a:latin typeface="方正水柱简体"/>
                <a:ea typeface="方正水柱简体"/>
              </a:rPr>
              <a:t>班常用搜索网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4:41:21Z</dcterms:created>
  <dc:creator>haicy</dc:creator>
  <dc:description/>
  <dc:language>en-US</dc:language>
  <cp:lastModifiedBy>haicy</cp:lastModifiedBy>
  <dcterms:modified xsi:type="dcterms:W3CDTF">2006-06-29T04:53:24Z</dcterms:modified>
  <cp:revision>9</cp:revision>
  <dc:subject/>
  <dc:title>我们班的班委</dc:title>
</cp:coreProperties>
</file>