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D005-92C4-41DD-8342-C8C7B639D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43EC-7735-4627-B17B-B8C2A864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6EDE-F26D-4F26-A2F6-24A62EFF3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E4BB-6ED7-42AE-98A3-944872C4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B518-E406-49D9-88F5-7D2F3584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6095-696B-4BE7-AEF1-7EBA5890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9160-5F82-45A2-BEBA-2E82B566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D1F1-6C0E-4559-82F0-58BEBA86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AC50-60A4-4C28-B7D0-024981F1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0B44-C0DF-4954-B40B-62D9BE2A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F3FE-0224-41FF-B5F6-FC4467EA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A81C-1A61-4E24-A088-BC57D0C1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74E0-2D32-4AEE-B91D-9EA9D4A9AF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隶书"/>
              </a:rPr>
              <a:t>竹里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7760" y="4800240"/>
            <a:ext cx="373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王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9520" y="1676520"/>
            <a:ext cx="40388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独坐幽篁里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弹琴复长啸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深林人不知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明月来相照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S01316_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2438280" cy="44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66680" y="533520"/>
            <a:ext cx="6934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此诗写诗人在竹林里独自弹琴、长啸、与明月相伴的情景。前两句写诗人“独坐”“弹琴”“长啸”等动作，后两句写夜静人寂，明月相伴。构成了全诗优美、高雅的意境，传达出诗人宁静、淡泊的心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竹林" descr=""/>
          <p:cNvPicPr/>
          <p:nvPr/>
        </p:nvPicPr>
        <p:blipFill>
          <a:blip r:embed="rId1"/>
          <a:stretch/>
        </p:blipFill>
        <p:spPr>
          <a:xfrm>
            <a:off x="1905120" y="3352680"/>
            <a:ext cx="548640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752480" y="1600200"/>
            <a:ext cx="6019920" cy="271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谢谢观赏！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02:25:45Z</dcterms:created>
  <dc:creator>zongsz</dc:creator>
  <dc:description/>
  <dc:language>en-US</dc:language>
  <cp:lastModifiedBy>zongsz</cp:lastModifiedBy>
  <dcterms:modified xsi:type="dcterms:W3CDTF">2005-08-29T02:11:58Z</dcterms:modified>
  <cp:revision>7</cp:revision>
  <dc:subject/>
  <dc:title>竹里馆</dc:title>
</cp:coreProperties>
</file>