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C4D-0217-47B6-B442-E768E388B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4DFD-3573-4DA6-8D45-5F41AAD9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A65-5A4A-4A93-A23C-F8F39328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994-CA0A-4F88-B57F-6249E724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66F-B34F-4D40-9F69-FC443CBB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224-1DCF-4813-AA33-15CD65FA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98F-6EB7-4880-9B88-D7D3666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860-474B-4281-A4AB-419B59C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208-94FE-4D4B-9A88-9C66D6675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D0C-AA8A-41FF-A0A7-357DD847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967-2415-4C14-ADD8-106ADA0B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8EB1-FA37-41CD-AC42-A94E05D0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5E46-B3D8-427E-AEFF-B6A93A45C87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21337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内蒙大事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41911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初二一班　　穆青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D05219_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366084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05320" y="1143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　　内蒙古自治区境内最早有人类活动的地区是在大青山南麓。在今呼和浩特市东北郊保合少乡大窑村发现的遗址，是一处旧石器时代早期就已由远古人类开始开采的石器制造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D05015_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2255760" cy="2484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12952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　　秦王朝建立以后，分天下为三十六郡。其中辖境涉及到今内蒙古自治区的有：九原郡、北地郡、云中郡、上郡、雁门郡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代郡、上谷郡、右北平郡、辽西郡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37339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　公元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1206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年，蒙古各部在斡难河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今鄂嫩河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方正书宋简体"/>
                <a:ea typeface="方正书宋简体"/>
              </a:rPr>
              <a:t>举行大聚会，推举铁木真为全蒙古大汗，号成吉思汗，建立大蒙古国。控制东起兴安岭，西至阿尔泰山，南抵阴山，北达贝加尔湖的广大地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D04924_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252576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6:20:11Z</dcterms:created>
  <dc:creator>cili</dc:creator>
  <dc:description/>
  <dc:language>en-US</dc:language>
  <cp:lastModifiedBy>cili</cp:lastModifiedBy>
  <dcterms:modified xsi:type="dcterms:W3CDTF">2005-11-10T06:44:58Z</dcterms:modified>
  <cp:revision>1</cp:revision>
  <dc:subject/>
  <dc:title>PowerPoint 演示文稿</dc:title>
</cp:coreProperties>
</file>