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E752-3EDE-4441-84B1-34FBF778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EF84-4254-4002-99A6-0390BEEC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444-C815-448D-AF6A-3D9563A6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C31-6348-427E-8973-2FA1677E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254-E89A-46BB-8A99-042D1ED9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3B4B-09BE-4219-8CC3-DB72221D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FCD-F705-46DC-9C9D-FB2812B4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4EE8-2A7F-4C8B-861D-420458EF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76D3-599A-4A97-B960-05820934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126-3566-46FD-83AC-25C0AA8C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0B45-C460-408F-AE0D-ED5C188F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A9F3-91D9-4DE4-80B2-BFCFC7FD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7ABB-A80F-4F47-B712-DD5A87BCA7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Times New Roman"/>
                <a:ea typeface="隶书"/>
              </a:rPr>
              <a:t>自我介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3429000"/>
            <a:ext cx="4552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初二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·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三班    张新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66880" y="6073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自我介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905120"/>
            <a:ext cx="3810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血型：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星座：双鱼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属相：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双鱼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2724120" cy="2162160"/>
          </a:xfrm>
          <a:prstGeom prst="rect">
            <a:avLst/>
          </a:prstGeom>
          <a:ln w="0">
            <a:noFill/>
          </a:ln>
        </p:spPr>
      </p:pic>
      <p:pic>
        <p:nvPicPr>
          <p:cNvPr id="46" name="she9" descr=""/>
          <p:cNvPicPr/>
          <p:nvPr/>
        </p:nvPicPr>
        <p:blipFill>
          <a:blip r:embed="rId2"/>
          <a:stretch/>
        </p:blipFill>
        <p:spPr>
          <a:xfrm>
            <a:off x="4419720" y="3886200"/>
            <a:ext cx="180000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3024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自我介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1905120"/>
            <a:ext cx="41911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我的特长：踢足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身高：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1.5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位置：中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BD00013_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23893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23880" y="2286000"/>
            <a:ext cx="64771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愿我们成为好朋友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03:05:21Z</dcterms:created>
  <dc:creator>zongsz</dc:creator>
  <dc:description/>
  <dc:language>en-US</dc:language>
  <cp:lastModifiedBy>cili</cp:lastModifiedBy>
  <dcterms:modified xsi:type="dcterms:W3CDTF">2005-11-07T02:38:02Z</dcterms:modified>
  <cp:revision>9</cp:revision>
  <dc:subject/>
  <dc:title>PowerPoint 演示文稿</dc:title>
</cp:coreProperties>
</file>